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3AF-2F16-411B-A20A-29E52729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830-0D9F-4A9F-957E-AED9A9E5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E2A-4325-4C9D-955F-E1983A0D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3EE-9606-472F-B931-359201C4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CC4-E8EF-4C0D-9043-8181082C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A85E-5DE8-490D-A347-DB29737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8723-3ED7-49D6-8507-644486F5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677E-1ABD-45B4-96F9-7F4CF669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C82-7762-4B03-AA69-0BF150F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6974-8163-4178-9C64-DE762FB8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10E1-63C4-4743-BD07-E8A0F642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756-43B9-446A-A078-C29E323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24E5-0431-471C-B44B-214255A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6C2A-1F31-4EA3-A08F-A156973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2D38-2FE8-4D79-82BC-B65F5655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EED2-E806-4E0B-A638-B1556E87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5315-A1D1-4F2C-A330-6B5E9E98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AAF-243C-4315-A27C-125A171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8C1-D7EC-45AD-A3BD-B37AE09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834-428D-45B7-AD58-E4E7C868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523-2041-456C-9329-334295AE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7CA-207F-4EAF-829B-B675EDE3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57B-75C7-4079-A18B-B45701A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58F-5FE0-4974-8BB8-00899987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E6E-2A98-4849-96C1-1475944B50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1AE2-4051-42CD-AC92-637FA2E1CC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лассный час  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посвященный Дню защитника Отечеств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в  5 В класс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го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i?id=74264323-07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i?id=127477487-04"/>
          <p:cNvPicPr/>
          <p:nvPr/>
        </p:nvPicPr>
        <p:blipFill>
          <a:blip r:embed="rId2"/>
          <a:stretch/>
        </p:blipFill>
        <p:spPr>
          <a:xfrm>
            <a:off x="4572000" y="3808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304560"/>
            <a:ext cx="3352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– красный день календаря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 этот день отца и деда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здравляет вся семья!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i?id=73307647-04"/>
          <p:cNvPicPr/>
          <p:nvPr/>
        </p:nvPicPr>
        <p:blipFill>
          <a:blip r:embed="rId1"/>
          <a:stretch/>
        </p:blipFill>
        <p:spPr>
          <a:xfrm>
            <a:off x="457200" y="228600"/>
            <a:ext cx="1981080" cy="45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185350315-01"/>
          <p:cNvPicPr/>
          <p:nvPr/>
        </p:nvPicPr>
        <p:blipFill>
          <a:blip r:embed="rId2"/>
          <a:stretch/>
        </p:blipFill>
        <p:spPr>
          <a:xfrm>
            <a:off x="6248520" y="22860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3200400" y="4952880"/>
            <a:ext cx="2355840" cy="158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96840" y="328680"/>
            <a:ext cx="9096480" cy="151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407880" y="1547640"/>
            <a:ext cx="84074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БУДЬТЕ МУЖЕСТВЕННЫМИ!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6" descr="правда о 23 февраля, или история возникновения мифа"/>
          <p:cNvPicPr/>
          <p:nvPr/>
        </p:nvPicPr>
        <p:blipFill>
          <a:blip r:embed="rId1"/>
          <a:stretch/>
        </p:blipFill>
        <p:spPr>
          <a:xfrm>
            <a:off x="2362320" y="2590920"/>
            <a:ext cx="533376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ИСТОРИЯ ПРАЗДН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начальн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3 феврал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раздновался как день рожден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асной арм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 честь победы под Нарвой и Псковом над немецкими войскам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нь первой победы принялся днем рождения арм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5" descr="i?id=136837392-04"/>
          <p:cNvPicPr/>
          <p:nvPr/>
        </p:nvPicPr>
        <p:blipFill>
          <a:blip r:embed="rId1"/>
          <a:stretch/>
        </p:blipFill>
        <p:spPr>
          <a:xfrm>
            <a:off x="457200" y="213372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Красная армия"/>
          <p:cNvPicPr/>
          <p:nvPr/>
        </p:nvPicPr>
        <p:blipFill>
          <a:blip r:embed="rId1"/>
          <a:stretch/>
        </p:blipFill>
        <p:spPr>
          <a:xfrm>
            <a:off x="5486400" y="457200"/>
            <a:ext cx="324792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33520" y="1772280"/>
            <a:ext cx="4876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революции этот праздник оказался под запретом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смену ему 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была учреждена новая да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 февраля – День Красной Арми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72406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1922 год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обрело характер большого всенародн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здника, как День Рождения Красной Арм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2 февраля 1922 год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Красной площади состоялся парад войск Московского гарнизона, а вечером - торжественное заседание Моссовета совместно с представителями воинских частей Московского гарнизо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i?id=108877333-10"/>
          <p:cNvPicPr/>
          <p:nvPr/>
        </p:nvPicPr>
        <p:blipFill>
          <a:blip r:embed="rId1"/>
          <a:stretch/>
        </p:blipFill>
        <p:spPr>
          <a:xfrm>
            <a:off x="3200400" y="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?id=16106486-10"/>
          <p:cNvPicPr/>
          <p:nvPr/>
        </p:nvPicPr>
        <p:blipFill>
          <a:blip r:embed="rId2"/>
          <a:stretch/>
        </p:blipFill>
        <p:spPr>
          <a:xfrm>
            <a:off x="6172200" y="228600"/>
            <a:ext cx="2666880" cy="272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?id=103402861-08"/>
          <p:cNvPicPr/>
          <p:nvPr/>
        </p:nvPicPr>
        <p:blipFill>
          <a:blip r:embed="rId3"/>
          <a:stretch/>
        </p:blipFill>
        <p:spPr>
          <a:xfrm>
            <a:off x="380880" y="304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6995160"/>
            <a:ext cx="685800" cy="813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4" descr="С 1946 года праздник стал называться Днем Советской Армии и Военно-Морского Флота"/>
          <p:cNvPicPr/>
          <p:nvPr/>
        </p:nvPicPr>
        <p:blipFill>
          <a:blip r:embed="rId1"/>
          <a:stretch/>
        </p:blipFill>
        <p:spPr>
          <a:xfrm>
            <a:off x="533520" y="380880"/>
            <a:ext cx="3962160" cy="5791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800600" y="686520"/>
            <a:ext cx="37339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22 году эта дата была официальн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влена Днем Красной Арм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днее 23 февра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о отмечался в ССС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народный праздн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ь Советской Армии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енно-Морского Фл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распада Советского Союза д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переименова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защитника Отече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1993 года этот праздник ст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ывать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нем Защитника Отече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этом понятии заключен огром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мысл – любить, почит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остойно защищать нашу Отчизну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ши солдаты и офицеры доказали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они с гордостью могут носи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вание Защитника Отечества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праздник для всего народ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ь в каждой семье в это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ь будут звучать поздравлен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ые слова для наших дедов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цов, сыновей, вну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ь их жизнь всегда освещ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ликая слава побед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оссийской Арм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мощь русского оружия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вь и преданность к своей Родин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i?id=76028084-02"/>
          <p:cNvPicPr/>
          <p:nvPr/>
        </p:nvPicPr>
        <p:blipFill>
          <a:blip r:embed="rId1"/>
          <a:stretch/>
        </p:blipFill>
        <p:spPr>
          <a:xfrm>
            <a:off x="6477120" y="3352680"/>
            <a:ext cx="236196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i?id=40191216-10"/>
          <p:cNvPicPr/>
          <p:nvPr/>
        </p:nvPicPr>
        <p:blipFill>
          <a:blip r:embed="rId2"/>
          <a:stretch/>
        </p:blipFill>
        <p:spPr>
          <a:xfrm>
            <a:off x="6400800" y="38088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952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3 феврал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осприним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только как праздник военны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теранов представителей силовых структур, но и просто всех муж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ников Родины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ироком смысле этого сло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перь поздравления и пода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этот день принимает кажд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ставитель сильной половины человечества в нашей стран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i?id=24498538-11"/>
          <p:cNvPicPr/>
          <p:nvPr/>
        </p:nvPicPr>
        <p:blipFill>
          <a:blip r:embed="rId1"/>
          <a:stretch/>
        </p:blipFill>
        <p:spPr>
          <a:xfrm>
            <a:off x="5486400" y="3886200"/>
            <a:ext cx="3124080" cy="2666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?id=153534506-05"/>
          <p:cNvPicPr/>
          <p:nvPr/>
        </p:nvPicPr>
        <p:blipFill>
          <a:blip r:embed="rId2"/>
          <a:stretch/>
        </p:blipFill>
        <p:spPr>
          <a:xfrm>
            <a:off x="5562720" y="304920"/>
            <a:ext cx="3124080" cy="327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 от всей души поздравляем всех Россиян 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нем защитника Отече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желаем вам и вашим близким крепкого здоровья, счастья и благополучия, пусть вашу жизнь всегда освещает великая слава побед российской армии, сила и мощь русского оружия, любовь и преданность своей Отчиз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i?id=16664188-07"/>
          <p:cNvPicPr/>
          <p:nvPr/>
        </p:nvPicPr>
        <p:blipFill>
          <a:blip r:embed="rId1"/>
          <a:stretch/>
        </p:blipFill>
        <p:spPr>
          <a:xfrm>
            <a:off x="609480" y="4495680"/>
            <a:ext cx="221004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?id=70294558-03"/>
          <p:cNvPicPr/>
          <p:nvPr/>
        </p:nvPicPr>
        <p:blipFill>
          <a:blip r:embed="rId2"/>
          <a:stretch/>
        </p:blipFill>
        <p:spPr>
          <a:xfrm>
            <a:off x="3276720" y="4572000"/>
            <a:ext cx="2361960" cy="18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i?id=24303100-12"/>
          <p:cNvPicPr/>
          <p:nvPr/>
        </p:nvPicPr>
        <p:blipFill>
          <a:blip r:embed="rId3"/>
          <a:stretch/>
        </p:blipFill>
        <p:spPr>
          <a:xfrm>
            <a:off x="6172200" y="45720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о помнить, что это единственный день в календаре страны, позволяющий, соответственно мужчинам - иметь сугубо свой, "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жск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" праздни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женщинам - лишний раз поблагодарить и поздравить сильную половину человечест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i?id=114678996-10"/>
          <p:cNvPicPr/>
          <p:nvPr/>
        </p:nvPicPr>
        <p:blipFill>
          <a:blip r:embed="rId1"/>
          <a:stretch/>
        </p:blipFill>
        <p:spPr>
          <a:xfrm>
            <a:off x="5410080" y="380880"/>
            <a:ext cx="3276720" cy="243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?id=56829628-00"/>
          <p:cNvPicPr/>
          <p:nvPr/>
        </p:nvPicPr>
        <p:blipFill>
          <a:blip r:embed="rId2"/>
          <a:stretch/>
        </p:blipFill>
        <p:spPr>
          <a:xfrm>
            <a:off x="5715000" y="29718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17T18:36:4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